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5B0-787F-4EFE-BF89-0E8AD0AA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562-54C6-485A-96CF-974F48F7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4BF-9F09-48F6-878D-1419C29E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BFA-AAEA-4962-B79C-96DC1256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2C2-6B12-489A-BCB7-094B5AAA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550-2656-4E1F-A2F8-2D4DA0A8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A9B-0F00-44AF-99D3-69E89D55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FFA-7C7C-44EA-9B60-9938D025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34E-5812-4D3D-8B7B-5C19E619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EA9-7CFD-466F-A1AB-FC8393F9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730-B69B-44D1-94EC-0A0BBB1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A2A-A58F-4774-A207-28E66E9D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ABE6-E3F6-44CD-BCE8-0A035999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620640"/>
          <a:ext cx="7704000" cy="70020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1 - Ecorregiones estratégicas prioridad ambiental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11280" y="1774800"/>
          <a:ext cx="7561080" cy="1654200"/>
        </p:xfrm>
        <a:graphic>
          <a:graphicData uri="http://schemas.openxmlformats.org/drawingml/2006/table">
            <a:tbl>
              <a:tblPr/>
              <a:tblGrid>
                <a:gridCol w="756108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s SIRAP-CARIBE/ SIN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concertada de la propuesta de un Sistema Local de Áreas Protegidas (SILAP- CARDIQU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ción de riesgos en zonas con fenómenos de diapirismo de lo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9640" y="140652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Ordenamiento y manejo integrado ecorregión Canal del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57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Ordenamiento y manejo integrado ecorregión Canal del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11280" y="3933720"/>
          <a:ext cx="7705800" cy="2159280"/>
        </p:xfrm>
        <a:graphic>
          <a:graphicData uri="http://schemas.openxmlformats.org/drawingml/2006/table">
            <a:tbl>
              <a:tblPr/>
              <a:tblGrid>
                <a:gridCol w="770580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 SIRAP - CARIBE/ SIN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concertada de la propuesta de un Sistema Regional de Áreas Protegidas (SILAP- CARDIQU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stión de proyectos ambientales de cofinanciación en el marco del POMCHC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ción de zonas de subsidencias para incorporar en los PL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11280" y="476280"/>
          <a:ext cx="8064360" cy="93672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5 - Mejor gestión ambi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stión de los recursos natur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11280" y="1600200"/>
          <a:ext cx="8075520" cy="1255680"/>
        </p:xfrm>
        <a:graphic>
          <a:graphicData uri="http://schemas.openxmlformats.org/drawingml/2006/table">
            <a:tbl>
              <a:tblPr/>
              <a:tblGrid>
                <a:gridCol w="80755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s para una política regional de biodiver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udios en priorización para la conservación de ecosite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xpedición botánica en los Montes de María para la articulación de los programas y proyectos del Jardín Botánico "Guillermo Piñeres"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728280" y="3357720"/>
            <a:ext cx="42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Verdana"/>
              </a:rPr>
              <a:t>Laboratorio de Calidad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90400" y="3860640"/>
          <a:ext cx="8229600" cy="1919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a la Red de Calidad Agua Marina REDC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posición y modernización de equipos de laboratorios (físico - química y microbiología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dquisición de insumos y materiales para funcionamiento del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mantenimiento y calibración de equip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er la acreditación  y ampliar los parámetros acredita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719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Sistema de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73200" y="1125360"/>
          <a:ext cx="8002440" cy="2248200"/>
        </p:xfrm>
        <a:graphic>
          <a:graphicData uri="http://schemas.openxmlformats.org/drawingml/2006/table">
            <a:tbl>
              <a:tblPr/>
              <a:tblGrid>
                <a:gridCol w="8002440"/>
              </a:tblGrid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imiento y actualización del software para el manejo de datos espaciales del sistema de información geográfica ambiental de Cardique – Sigac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ctualización de Base de Datos y construcción de Web Services sobre ArcGIS Server y migración de base de datos CONGONA al sistema de coordenadas Magna-Sirgas, publicación de mapas a la intranet corporativa con el área de Sistema de Información Geográfica en la nueva plataforma ArcGis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008720" y="3911760"/>
            <a:ext cx="53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Consolidación del desarrollo corpor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4360" y="4292640"/>
          <a:ext cx="7991280" cy="158436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ción y retroalimentación del Plan Estadístico Corpo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trucción e implementación del Laboratorio para Bioensay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ar a los municipios de la jurisdicción en su actualización catas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dernización del Centro de Documentación (salas de video, internet e infant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684360" y="5877000"/>
            <a:ext cx="799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ción Sistema de Gestión de Calidad ISO9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39640" y="476280"/>
          <a:ext cx="8218440" cy="83484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6 - Educación ambi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esoría y apoyo a proyectos institucionales y comun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39640" y="1646280"/>
          <a:ext cx="8137440" cy="36543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en la formulación, adopción e implementación del Plan de Educación Ambiental  Departamen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ompañamiento a los C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ción y capacitación de funcionarios de los entes territor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esoría y acompañamiento a los Comités Técnicos Interinstitucionales  de Educación Ambiental Municip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lusión de la dimensión ambiental en el desarrollo de proyectos ecoturísti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ientización y sensibilización del panorama de amenazas en los municipios con PLECs formul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vulgación de mensajes institucionales por radio comunitar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333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Construcción de una cultura ambiental desde las escuelas y la comunidad en general y su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9280" y="1052640"/>
          <a:ext cx="8245440" cy="2985840"/>
        </p:xfrm>
        <a:graphic>
          <a:graphicData uri="http://schemas.openxmlformats.org/drawingml/2006/table">
            <a:tbl>
              <a:tblPr/>
              <a:tblGrid>
                <a:gridCol w="8245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nsibilización de las comunidades de la jurisdicción en cuanto a la preservación de las especies de fauna y flor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y celebración de eventos y conmemoración de fechas del calendario ambien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de la investigación a partir de viveros comunitari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para la construcción de los viveros comuni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laboración y actualización inventario de PRA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esoría y acompañamiento a Proyectos ambientales Escola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y asesoría al Servicio Social Ambien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097280" y="4406760"/>
            <a:ext cx="67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Formación a dinamizadores y gestores ambi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4869000"/>
          <a:ext cx="8137440" cy="93492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y asesoría al Servicio Social Ambien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 de clubes de radio escolar en los municipios de la jurisdi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684360" y="5805360"/>
            <a:ext cx="813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 formación en gestión ambiental comunitaria, local y reg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180120"/>
            <a:ext cx="813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alecimiento de proyectos comunitarios de educación amb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0280" y="720720"/>
          <a:ext cx="8218440" cy="140004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7 - Parque Natural Distrital Ciénaga de la Vi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uperación y conservación del Parque Natural Distrital Ciénaga de la Virgen</a:t>
                      </a: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39640" y="2516040"/>
          <a:ext cx="8136000" cy="29289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acitación en temas de educación ambiental relacion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a proyectos productivos comunitari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y monitoreo de la implementación del P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de los perfiles de proyectos que conlleven al mejoramiento hidráulico y al saneamiento ambiental de los arroyos y canales que vierten hacia la Ciénaga de la Vir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terventorías de proyectos, obras o activid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68360" y="928800"/>
          <a:ext cx="8351640" cy="6998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1 - Ecorregiones estratégicas prioridad ambiental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468360" y="16225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Ordenamiento y manejo integrado ecorregión Ciénaga de la Vi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9640" y="2133720"/>
          <a:ext cx="8209080" cy="436068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ablecimiento de la capacidad instalada institucional para la implementación del SIGAM Ins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 SIRAP - CARIBE/ SIN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concertada de la propuesta de un Sistema Local de Áreas Protegidas (SILAP- CARDIQ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óstico erosión cost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ción de riesgos en zonas con fenómenos de diapirismo de l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stión de proyectos ambientales de cofinanciación en el marco del POMCH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ación y divulgación de los programas y proyectos del POMCA Ciénaga de la Vir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39640" y="476280"/>
          <a:ext cx="8352000" cy="820800"/>
        </p:xfrm>
        <a:graphic>
          <a:graphicData uri="http://schemas.openxmlformats.org/drawingml/2006/table">
            <a:tbl>
              <a:tblPr/>
              <a:tblGrid>
                <a:gridCol w="835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2 - Cuerpos de agua ambientalmente sa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ervación de aguas superfic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11280" y="1549440"/>
          <a:ext cx="8208720" cy="256212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Zonificación de uso y manejo de la Bahía de Cartagena en convenio con el Distrito de Cartag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r Monitoreo periódico a cuerpos de agua de la jurisdicción (fase 5 y 6), decreto 1323/0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stalar algunas estaciones hidrometeorológicas o ambientales, en los sitios más adecuados, contribuirá en lo climático, ambiental y la atención y prevención de desast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udio y modelación para alerta temprana por contaminación de aguas superficiales ocasionada por derrames terrestr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2720" y="4118040"/>
          <a:ext cx="8207280" cy="155736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trabajos manuales para la restauración hidrodinám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imiento de canales pluviales área de jurisdicción (con énfasis en los urbanos del distrito de Cartage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arrollo de actividades de limpieza de ciénagas y cauces de arroyos de la jurisdicción de Cardiq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55640" y="1916280"/>
          <a:ext cx="7848720" cy="249552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r Monitoreo periódico a las aguas subterráneas de la jurisdicción (fase 5 o 6), decreto 1323/0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estudios de vulnerabilidad de las aguas subterrán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de PMA de las aguas subterrán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truir un índice de escasez de las aguas subterráneas, resolución 865  (costo/beneficio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55640" y="692280"/>
          <a:ext cx="7848720" cy="11476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2 - Cuerpos de agua ambientalmente sa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stión de aguas subterrán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68360" y="1052640"/>
          <a:ext cx="8351640" cy="114120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3 - Bosques y manglares como hábitat de biodivers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stión forestal y zonas ver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8360" y="2276640"/>
          <a:ext cx="8351640" cy="206676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y evaluación a los programas de compensación fores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n piloto para la restauración boscosa en zonas afectadas por el síndrome fungal (phytoptera) en la ecorregión Montes de Marí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n piloto para la restauración de ecosistemas de bosque seco tropic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venios para establecer viveros regionales comunitari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4340160"/>
          <a:ext cx="8351640" cy="124956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seguimiento a los Permisos de Aprovechamiento Forestal (PA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operativos de control y vigilancia para contrarrestar la tala indiscriminada, tráfico y comercialización de la flora 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olidación y recuperación de áreas de espacio público en la jurisdic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549360"/>
          <a:ext cx="8424360" cy="43164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orestación productora-protecto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5280" y="981000"/>
          <a:ext cx="8424720" cy="1446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forestación cuencas priorizadas de la jurisdicción con especies nativas para proteger cuencas abastecedoras de acueductos de centros poblados y cuencas de los arroyos de la jurisdicción de Card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imiento a reforestación año a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700560" y="3171960"/>
            <a:ext cx="622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Implementación de la zonificación del mang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2200" y="3645000"/>
          <a:ext cx="8570880" cy="2838240"/>
        </p:xfrm>
        <a:graphic>
          <a:graphicData uri="http://schemas.openxmlformats.org/drawingml/2006/table">
            <a:tbl>
              <a:tblPr/>
              <a:tblGrid>
                <a:gridCol w="8570880"/>
              </a:tblGrid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de Planes de Manejo  de areas priorizadas en la zonificación de los Mang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arrollar un programa de educación ambiental con enfasis en la conservación del manglar en la zona cos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trucción de canales para la restauración del mang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egetalización de áreas manglár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trolar la tala indiscriminada del mang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ctualización de la zonificación de manglares de la jurisdi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ción del Plan de Manejo de la zonificación de los Mang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5280" y="549360"/>
          <a:ext cx="8424360" cy="43164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ervación, uso y manejo de fauna silvest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95280" y="1125360"/>
          <a:ext cx="8424720" cy="47527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ostico sobre especies invasoras en la jurisdicción de Cardiq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ación sobre flora y fauna silv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ción plan de uso y manejo de las especies babilla, caimán e hicot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poblamiento con especies ícticas 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udio de poblaciones naturales para especies amenazad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programa de conserv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n de uso y manejo de las especies babilla, caimán e hicot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seños y requerimientos de infraestructura para la construcción e implementación de un Centro de Atención y Valoración de la Fauna Silvestre en el Área de la Jurisdicción de Card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operativos de control y vigilancia para contrarrestar la caza, tráfico y comercialización indiscriminada de la fauna silv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8360" y="1052640"/>
          <a:ext cx="8351640" cy="10681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4 - Sostenibilidad ambiental del desarrollo urbano y r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nejo de residuos urb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8360" y="2349360"/>
          <a:ext cx="8351640" cy="181296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crementar el aprovechamiento  de los residuos orgán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ver en los municipios los canales de comercialización de residuos sól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a la promoción, creación y consolidación de empresas comunitarias de as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8360" y="4164120"/>
          <a:ext cx="8351280" cy="73332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arrollo de un programa de sensibilización para la separación en l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68360" y="4897440"/>
          <a:ext cx="8351640" cy="3650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en la implementación de los PGIRS municip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469800"/>
          <a:ext cx="8351640" cy="6476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lementación de procesos productivos limpios, urbano y rural, mercados verdes y mecanismos de desarrollo limp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24000" y="1211400"/>
          <a:ext cx="8351640" cy="401148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seño e implementación de un software para seguimiento de actividades empresariales en la jurisdicción de Cardiq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óstico ambiental de plaguicidas (tipo de producto, distribuidores, uso, impacto, disposición final) en la jurisdicción de Cardiq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ventario  de fuentes fijas y móviles en el área de Mamonal y Pasacabal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r el mapa de ruidos del área de influencia del complejo industrial de Mam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óstico ambiental de actividades portuarias en la Bahía de Cartage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ablecimiento y seguimiento de convenios de producción mas limp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r y actualizar nuevas fuentes generadoras de residuos peligr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r estrategias de educación, concientización, control y seguimiento sobre residuos peligr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24000" y="5222880"/>
          <a:ext cx="8351640" cy="11588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ver la gestión adecuada de los aceites usados, PCBs aceites dieléctricos y Agroquímic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a entidades prestadoras de salud que disponen adecuadamente los residuos hospitalari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1:16:46Z</dcterms:created>
  <dc:creator>GONZALO POSADA</dc:creator>
  <dc:description/>
  <dc:language>en-US</dc:language>
  <cp:lastModifiedBy>GONZALO POSADA</cp:lastModifiedBy>
  <dcterms:modified xsi:type="dcterms:W3CDTF">2009-09-30T22:50:54Z</dcterms:modified>
  <cp:revision>22</cp:revision>
  <dc:subject/>
  <dc:title>Diapositiva 1</dc:title>
</cp:coreProperties>
</file>